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B8EC-8BB6-4B41-902C-E1EDB25A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2A5-1E3F-49A9-B44E-937F3225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125E-7768-4890-A07A-3DA96E63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E8F-29E7-471C-AB84-2E0DF2BD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B747-9D9E-4E22-8F65-AF677EEB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A04F-799F-4817-B03B-0FE2FCB2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712F-AB8F-47DA-A768-32CD4F96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172D-63EB-4CAD-BF57-59785DD9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8C51-3D0A-4A86-95E4-4CCB10B1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4B1D-82C2-4D05-A41E-1F1D3F7B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84F5-F325-4633-9B4F-E505D469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67E-B647-4AB6-8EC0-952E197B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0AD8-B357-43D3-8F7A-29A84AA4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2D45-0613-40B8-BE1B-E9C9C239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0041-51C6-4954-9B53-958168F2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F5D3-12E0-4CA8-A3BB-9415E5EF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669B-C44A-4B38-9A99-F7C72348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ED21E-2A3F-4DD0-9EA4-15D30402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B9CE5-62C7-4FF9-BDC8-89F22D60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9D18F-9E21-44DE-BDDA-4C3A7283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D5F39-B61A-458E-88A4-C7A677F3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165F4-2A00-4082-B90E-290FA9CA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888D-84B3-44B7-9F8F-DE6CEA2F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FCD8F-28C2-4F31-AEA2-D848C536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F4F92-D4E6-48A8-A586-F8D4014A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2E3EB-9FB8-4D78-AE08-DEE8CDB3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94838-BE34-4B62-A206-EF5C1E59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716BD-A961-41CD-AA27-0438789E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97840-701F-4EB9-9408-F184EF2C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08CC5-B7B8-4E2F-813B-BFF661C6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0E301-71DB-4C47-98E2-05C33DAA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BE01A-A69D-4458-B1AE-7E392C58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D47F3-B2CA-4894-9CCB-079C62F7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47E3-D488-4302-9B3B-3F0E0104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55FA4-AFF9-4B33-BA28-8B6D825A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A1EAE-AC39-4D97-A8FC-9E42708E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0568F-697A-45CC-B5CF-CA47D320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4D4A2-EDAF-436C-8812-993D846D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16C34-897B-4044-89DA-0AD76CE5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EACC3-D9FA-41C1-8A66-F62184D5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46E02-F660-41EF-BD3F-835DBB59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8BF59-26AA-4B39-AF54-1E883AD7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F1063-5AF9-43D0-A45D-9547C4B8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FF155-6311-4530-A7E8-A41EE6FA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3392-22D5-4EAC-81FA-A8D14482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9AB5D-C97E-4D8D-A06B-D4B28BA7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32C0E-3430-4019-94C6-1E285FA3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00282-BEB4-4F00-8341-82D1EBCA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D7CE2-2DD5-4DA0-AD4F-B34A13C1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CECA3-7662-44D7-BE4B-EE175F70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54A31-38B7-489D-9BED-8A4EEAC7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CF2D4-8CF5-42DB-8C4C-2A169D44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4C1B0-8BEF-4F1F-8CDC-89B323AD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424F2-C1B8-4628-9740-746C3A90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D344E-F71A-4EB3-8EE7-CB98F42A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BFA7-55B3-44AA-A291-2BCF3E6F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4027B-6130-4709-A251-3D77F395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CEBCE-F4B8-4BE1-80D0-D9E59D3D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FC7D4-1531-4D03-BFC7-FA248D99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4B531-D8C6-4F02-86BC-FACCBE95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287BE-F3BA-4463-B545-24FB32D9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6AFBD-978E-4A59-94C7-2516B23D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4FAFF-0862-4BD0-9EA4-91FA79CE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977C5-D2C0-4086-A664-599F2E76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C2A37-7C9D-4B3A-9D9F-DDADC483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20F4C-6A84-4084-B940-F1CB213E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0A7-5F15-4E3F-9805-1FD44F26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50036-35D7-4B2A-8824-849B35AA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C47B8-2A78-4C16-B8A3-564D404F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090CF-9F3C-4B9B-AFF7-5F6FE358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B9C-D003-4F64-8331-00E5DAC4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DA3-6589-43C2-8D12-667F0A9C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50C6-C732-4C1A-B2D0-1203682404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0E65-8DD2-4979-9D01-7D3CD9D9B4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E5F9-E8FE-4677-8252-AE9C6C9DA9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7A80-FCD1-464B-BB52-F0BCCBB951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422E-C7A5-418C-BAEA-EE8477EB46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2B75-6A00-4037-AC6C-476B77B678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Cooper Black"/>
              </a:rPr>
              <a:t>Challenge 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Phys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sp>
        <p:nvSpPr>
          <p:cNvPr id="278" name="Rectangle 15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. LaRosa  http://www.middleschoolscience.com  for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280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Densit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281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609480" y="304920"/>
            <a:ext cx="77724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alculate the mass for the following objects using the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ugie"/>
              </a:rPr>
              <a:t>mass = Density x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Heart 2"/>
          <p:cNvSpPr/>
          <p:nvPr/>
        </p:nvSpPr>
        <p:spPr>
          <a:xfrm>
            <a:off x="990720" y="2438280"/>
            <a:ext cx="1523880" cy="1524240"/>
          </a:xfrm>
          <a:prstGeom prst="pie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loud 3"/>
          <p:cNvSpPr/>
          <p:nvPr/>
        </p:nvSpPr>
        <p:spPr>
          <a:xfrm rot="403800">
            <a:off x="560520" y="4246560"/>
            <a:ext cx="2361960" cy="1905120"/>
          </a:xfrm>
          <a:prstGeom prst="pie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5"/>
          <p:cNvSpPr/>
          <p:nvPr/>
        </p:nvSpPr>
        <p:spPr>
          <a:xfrm>
            <a:off x="3200400" y="25146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is heart has a density of 5 g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and has a volume of 100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at is its m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3200400" y="43434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is cloud has a volume of 500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and a density of 2 g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at is its m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5029200" y="6248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Don’t forget the units for mas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iagonal Stripe 20"/>
          <p:cNvSpPr/>
          <p:nvPr/>
        </p:nvSpPr>
        <p:spPr>
          <a:xfrm rot="1102800">
            <a:off x="6368760" y="4317480"/>
            <a:ext cx="457200" cy="838440"/>
          </a:xfrm>
          <a:prstGeom prst="pie">
            <a:avLst/>
          </a:prstGeom>
          <a:gradFill rotWithShape="0">
            <a:gsLst>
              <a:gs pos="0">
                <a:srgbClr val="7d0000"/>
              </a:gs>
              <a:gs pos="100000">
                <a:srgbClr val="ff1a21"/>
              </a:gs>
            </a:gsLst>
            <a:lin ang="15096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Diagonal Stripe 19"/>
          <p:cNvSpPr/>
          <p:nvPr/>
        </p:nvSpPr>
        <p:spPr>
          <a:xfrm rot="1102800">
            <a:off x="4463640" y="4774680"/>
            <a:ext cx="457200" cy="838440"/>
          </a:xfrm>
          <a:prstGeom prst="pie">
            <a:avLst/>
          </a:prstGeom>
          <a:gradFill rotWithShape="0">
            <a:gsLst>
              <a:gs pos="0">
                <a:srgbClr val="7d0000"/>
              </a:gs>
              <a:gs pos="100000">
                <a:srgbClr val="ff1a21"/>
              </a:gs>
            </a:gsLst>
            <a:lin ang="15096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Diagonal Stripe 12"/>
          <p:cNvSpPr/>
          <p:nvPr/>
        </p:nvSpPr>
        <p:spPr>
          <a:xfrm rot="1102800">
            <a:off x="6400440" y="2514240"/>
            <a:ext cx="457200" cy="838080"/>
          </a:xfrm>
          <a:prstGeom prst="pie">
            <a:avLst/>
          </a:prstGeom>
          <a:gradFill rotWithShape="0">
            <a:gsLst>
              <a:gs pos="0">
                <a:srgbClr val="7d0000"/>
              </a:gs>
              <a:gs pos="100000">
                <a:srgbClr val="ff1a21"/>
              </a:gs>
            </a:gsLst>
            <a:lin ang="15096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Diagonal Stripe 10"/>
          <p:cNvSpPr/>
          <p:nvPr/>
        </p:nvSpPr>
        <p:spPr>
          <a:xfrm>
            <a:off x="4495680" y="2971800"/>
            <a:ext cx="762120" cy="685800"/>
          </a:xfrm>
          <a:prstGeom prst="pie">
            <a:avLst/>
          </a:prstGeom>
          <a:gradFill rotWithShape="0">
            <a:gsLst>
              <a:gs pos="0">
                <a:srgbClr val="7d0000"/>
              </a:gs>
              <a:gs pos="100000">
                <a:srgbClr val="ff1a2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"/>
          <p:cNvSpPr/>
          <p:nvPr/>
        </p:nvSpPr>
        <p:spPr>
          <a:xfrm>
            <a:off x="609480" y="304920"/>
            <a:ext cx="77724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alculate the mass for the following objects using the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ugie"/>
              </a:rPr>
              <a:t>mass = Density x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Heart 2"/>
          <p:cNvSpPr/>
          <p:nvPr/>
        </p:nvSpPr>
        <p:spPr>
          <a:xfrm>
            <a:off x="990720" y="2438280"/>
            <a:ext cx="1523880" cy="1524240"/>
          </a:xfrm>
          <a:prstGeom prst="pie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loud 3"/>
          <p:cNvSpPr/>
          <p:nvPr/>
        </p:nvSpPr>
        <p:spPr>
          <a:xfrm rot="403800">
            <a:off x="560520" y="4246560"/>
            <a:ext cx="2361960" cy="1905120"/>
          </a:xfrm>
          <a:prstGeom prst="pie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3124080" y="25146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ass = 5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 g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100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5029200" y="6248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Don’t forget the units for mas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Multiply 8"/>
          <p:cNvSpPr/>
          <p:nvPr/>
        </p:nvSpPr>
        <p:spPr>
          <a:xfrm flipV="1">
            <a:off x="5334120" y="2590920"/>
            <a:ext cx="380880" cy="42696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Equal 9"/>
          <p:cNvSpPr/>
          <p:nvPr/>
        </p:nvSpPr>
        <p:spPr>
          <a:xfrm>
            <a:off x="7010280" y="2438280"/>
            <a:ext cx="457200" cy="68580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Rectangle 13" descr=""/>
          <p:cNvPicPr/>
          <p:nvPr/>
        </p:nvPicPr>
        <p:blipFill>
          <a:blip r:embed="rId1"/>
          <a:stretch/>
        </p:blipFill>
        <p:spPr>
          <a:xfrm>
            <a:off x="7424640" y="2309760"/>
            <a:ext cx="1901880" cy="81756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4"/>
          <p:cNvSpPr/>
          <p:nvPr/>
        </p:nvSpPr>
        <p:spPr>
          <a:xfrm>
            <a:off x="3048120" y="43434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ass = 2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 g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500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Multiply 15"/>
          <p:cNvSpPr/>
          <p:nvPr/>
        </p:nvSpPr>
        <p:spPr>
          <a:xfrm flipV="1">
            <a:off x="5257800" y="4494960"/>
            <a:ext cx="380880" cy="42732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Equal 16"/>
          <p:cNvSpPr/>
          <p:nvPr/>
        </p:nvSpPr>
        <p:spPr>
          <a:xfrm>
            <a:off x="6934320" y="4343400"/>
            <a:ext cx="457200" cy="68580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Rectangle 18" descr=""/>
          <p:cNvPicPr/>
          <p:nvPr/>
        </p:nvPicPr>
        <p:blipFill>
          <a:blip r:embed="rId2"/>
          <a:stretch/>
        </p:blipFill>
        <p:spPr>
          <a:xfrm>
            <a:off x="7236000" y="4303800"/>
            <a:ext cx="205416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Liz</cp:lastModifiedBy>
  <dcterms:modified xsi:type="dcterms:W3CDTF">2008-07-05T02:04:19Z</dcterms:modified>
  <cp:revision>85</cp:revision>
  <dc:subject/>
  <dc:title>Slide 1</dc:title>
</cp:coreProperties>
</file>